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F01-17E7-4082-A7C5-0ECFB884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62D-92AA-4721-9A4C-D22E0B80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0F8-2368-46A5-B4A2-7E48887B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EEA-161E-4823-AAF7-70CA62CB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C9AD-A0DD-42A7-B0D0-1501EDC6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E122-A556-45AA-B437-CD935924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FBA8-1555-4126-AC5C-447032C9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02B9-2B6C-419E-ADFD-FA237AA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2836-F826-48D4-AEFA-1D4F7AD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63A6-889C-4549-9206-FBEA7179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A68B-444B-484B-879F-AFD5DCB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D93-77E8-4695-9EB8-D485AC8E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0CB0-FA4E-4C0A-A536-0F62BE48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72EF-0397-4991-B8FB-7C0A3F9D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874D-1A5E-4CFF-8544-B9AAE4ED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3A65-D8BD-4B79-B056-D6F6B0F0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1C8F-9196-455A-9C99-4EEBD57A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732-2084-44DD-940A-A71A8431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7CB-41A4-48DC-8CDD-1C7826D8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EC0-A261-4679-AECE-DB7B958D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B31-938E-4FA4-A42E-03054446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2D3-79DF-4412-8954-83FD515F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C0E-F36E-47F7-A5DE-F5DCBA7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8B4-83DB-43EE-B73B-FBF46D12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2CFE-6D5F-4BDB-8F2F-2B072367E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0D3D-2820-48E4-8778-EC86CA508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oetry is meant to be spoken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Good writers  use line breaks and stanzas to show their readers where to pause when reading alou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Where would you put the stanza break?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5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is is where Hughes put the stanza break.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ink about why he put it ther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ust because I loves you--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at’s de reason wh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a soul is full of col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Like de wings of a butterfl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ust because I loves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at’s de reason wh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a Heart’s a fluttering aspen lea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en you pass b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Remember, poetry is meant to be spoken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Line breaks emphasize natural pauses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tanzas indicate a change in idea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periment with the size, shape and length of your lines and stanzas. Practice reading your poem in different way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5120" y="16002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91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rst, we will look at line breaks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racticing with Valerie Worth’s poem “Crickets” we will alter the line break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nk about how it changes the rhythm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rickets talk in the tall gr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ll late summer long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en summer is gon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the dry grass whispers alo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9343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rickets talk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the tall grass all la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ummer long.  Wh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umm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gone, the dr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gr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ispers alo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"/>
              </a:rPr>
              <a:t>How did changing the line breaks affect the poem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15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"/>
              </a:rPr>
              <a:t>This is how Worth chose to write her poem.</a:t>
            </a:r>
            <a:br>
              <a:rPr sz="2400"/>
            </a:br>
            <a:br>
              <a:rPr sz="24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Cricket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Talk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In the tall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Gras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All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Late summer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 Long.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Whe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Summer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 Is gone,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The dr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 Gras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Whisper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Palatino"/>
              </a:rPr>
              <a:t> Alone.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19320" y="2057400"/>
            <a:ext cx="67816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reak a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ccording to your natural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o emphasize a particular word 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o create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o change the pace or rhy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n strong words, nouns, verbs, and ad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en thinking about where to put your line breaks, use Georgia Heard’s ideas to guide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Next, let’s look at stanza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tanza  is Latin for standing or stopping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riters use stanzas to signify a change in action or a break in ideas. If you want to make a new  stanza, ask yourself if you are changing ideas or changing the action  in your poem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96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Lets look at a poem by Langston Hughes called “Reasons Why.” The stanza break is missing.</a:t>
            </a: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ust because I loves you--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at’s de reason wh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a soul is full of col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Like de wings of a butterfl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ust because I loves yo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at’s de reason wh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a Heart’s a fluttering aspen lea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en you pass b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8:47:29Z</dcterms:created>
  <dc:creator>AAPS</dc:creator>
  <dc:description/>
  <dc:language>en-US</dc:language>
  <cp:lastModifiedBy>Chuck Hatt</cp:lastModifiedBy>
  <dcterms:modified xsi:type="dcterms:W3CDTF">2006-03-27T20:08:41Z</dcterms:modified>
  <cp:revision>48</cp:revision>
  <dc:subject/>
  <dc:title>PowerPoint Presentation</dc:title>
</cp:coreProperties>
</file>